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18A0-88DE-4DF0-B799-E6C69C8D6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have to code the implementation directly into the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do code the implementation in the class, it is “inlin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EA4D-57B7-4413-B615-EEB7BA348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C347-8C5A-402B-A5B6-E7A6316E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5920-FDB6-4B93-8CB1-06EB72618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B933-EDC3-4DBB-9400-4C26C8DE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1988-2EB5-4BAE-A281-3B58F478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2BAD-0BA7-432A-877E-82C3BC1E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140A-5E49-4C98-A11D-067C8B2A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14E9-F716-48F3-9A1B-982A6B04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22A1-5EC1-4FBD-BC37-1B72276C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5044-02B7-4A62-9DFC-1A7C70AA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5B9B-69BC-4408-80A5-66C1B256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92A6-D7D0-438F-B81B-E50A223C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78EB-5388-49F8-BBFC-1470A6CBE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/C++ 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onio Maior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 4,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ing Class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Interface to class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(int size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~String(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De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Member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SetString(char str[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GetStringLength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PrintString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Data me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* m_pSt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_lengt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ing Class Implement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on/De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::String(int siz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_pStr = new char[size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_length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::~String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[] m_pSt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ing Class Implement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Useful String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String::SetString(char str[]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cpy(m_pStr, st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_length = strlen(st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tring::GetStringLength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m_lengt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String::PrintString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"%s\n", m_pSt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d Cod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myName; // Declare a String “object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structString(myName, 50); // Create the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String(myName, “Tony”); // Set a value in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length = GetStringLength(myName); // Get the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“Length: %d\n”, leng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String(myName); // Output the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structString(myName); // Destroy the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 our String clas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myName(50); // Declare &amp; create the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yName.SetString("Tony"); // Set a value in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length = myName.GetStringLength(); // Get the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"Length: %d\n", length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yName.PrintString(); // Output the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 Problems Solv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othing stops the user from modifying the struct values directly! The data is no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ith classes, you can protect data by using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spec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 Problems Solv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User may forget to call ConstructString() and/or DestructString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ith classes, Constructor and Destructor are automatically called when objects are created and destroyed (respective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 Problems Solv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nnoying having to pass the String struct to every single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ith classes, you call memebrs function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 object instance using the dot operator, so there’s no need to pass in the object to the function (it is passed implicit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obje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bject is something that h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per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can be manipulated throug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A coffee cup is an object that has property “fullness” and method “drink” that affects the full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++, an object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uepr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alled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word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are similar to structs except for two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mber fun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ethods) along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ta me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ropert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cess specifi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control access to data members and member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Fo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GetAlpha() { return alpha; } // Member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beta; // Data m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etAlpha(int val) { alpha = va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alph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o myFoo; // Create an instance of Fo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yFoo.beta = 4; // No problem! beta has public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a = myFoo.GetAlpha(); // Once again, on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yFoo.alpha = 5; // ILLEGAL!!! WON’T COMP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yFoo.SetAlpha(5); // ALSO ILLEGAL!!! WON’T COMP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Specif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3 types of access specifiers, and they can appear anywhere in the class, in any order, and as often as you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nyone can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v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nly class methods can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c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class methods and children can access (more on this later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on/De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lass can conta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struct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stru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mber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or is called only once when object is instanti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tructor is called only once when object is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ault constructor and destructor created when none ar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truction/Destruction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ou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_count; // Private data m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Constructors to initialize data m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er() { m_count = 0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er(int startCount) { m_count = startCount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Empty destructor (no need to define real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~Counter()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Public member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Tick() { ++m_count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GetCount() { return m_count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Continue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er counter1; // Internal count is at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er1.Tick(); // Count is at 1 n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“counter1: %d\n”, counter1.GetCount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er counter2(5); // Internal count is at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er2.Tick(); // Count is at 6 n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“counter2: %d\n”, counter2.GetCount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er* counter3 = new Count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er* counter4 = new Counter(5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counter3; // Destructor called he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counter4; // Destructor called he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Destructors for counter1 and counter2 called he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REAL String O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week, we wrote a String “Object” using structs and functions (a la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oted many problems inherent in a non-object-oriented language like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rewrite the String object using class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urce code provided: StringTest2.z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16:23:20Z</dcterms:created>
  <dc:creator>Antonio Maiorano</dc:creator>
  <dc:description/>
  <dc:language>en-US</dc:language>
  <cp:lastModifiedBy>Tony</cp:lastModifiedBy>
  <dcterms:modified xsi:type="dcterms:W3CDTF">2003-08-23T18:09:20Z</dcterms:modified>
  <cp:revision>28</cp:revision>
  <dc:subject/>
  <dc:title>C/C++ Tutorial</dc:title>
</cp:coreProperties>
</file>